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912-E079-43FD-8CFF-72C74748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847-69C8-4A04-8430-2A921BC0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0F9BF-9BAE-42B2-BB43-30B28DE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1EC91-6A13-463B-B155-F3B7B346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77188-D2CF-44B2-9590-881C3411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119BB-5395-4280-8CEF-E0CEA42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B36D7-A2BF-4B2F-B4E8-30EE68B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1D04F-867A-42E5-92FB-F6C9208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BD381-DAAE-4607-B7AF-8FE65045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935A2-F3CC-4587-8676-0E8F2823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82A0E-26EA-403F-B6AA-EA9A202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47A793-600A-478D-AD0E-4A1519C7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BB4-DE4B-4595-BA17-EEFBE9DF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1CFD2-E145-46B8-BAA5-0068930D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7369B4-BC73-4658-9799-CE67DC1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D07C45-7D0E-4D06-9915-7D43A0BC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38DE3-1F9D-4914-A9C9-CAA6BAF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4E0B0-E63B-48A4-ADA5-9C41A58D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BC0BF-CC17-4491-B210-124CBC8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7EA73-BB09-43D0-B353-2ADECFE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FAFD23-E29A-418E-AB04-C4AB717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2FB812-F3D2-4D0C-B6CB-801887A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419BB-A49D-464F-AA04-0C5E72D8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694-4B6E-47C3-900B-8F551732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B9C123-0C51-4920-8C48-D08DF41D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E9F1E-F385-4A1B-85E9-014CACDD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936DD-5280-4723-BDAE-3A540C9D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5C10-9246-4B27-B6CB-92FFEE2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47D7E-D2CC-4E66-86ED-8A7673AD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783E-2641-43FC-8C82-E2FDD3A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1734-271A-473D-9AA4-B326111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3BBB4-06E0-4379-9EDD-BF04BBE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D777-1FFA-419C-9980-A23142C8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C2CA9-27B2-4906-A9F1-B023BEB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EC4-2823-4C98-AFA9-6BE316FF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8718D-D861-4AE9-94F5-CE71E64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BD145-49B7-41FC-9CE4-A183F604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FFBF7-85C8-41C2-ABE1-60FF29D2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DC0F0-9218-47E5-A7D4-32380652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EAB54-382E-4A9D-B2BA-A38DE06E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48193-EAC7-4EAE-A456-99B613E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2E218-7AB5-4014-8382-7B7DFD1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D4577-541E-483B-96C8-08A8C367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E718C-52E6-4F89-AC83-D1C2E7BA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AAA2A-0D14-47FC-AD57-9E509B99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F630-5C59-402D-A652-84444AE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43306-AA07-4A66-97AC-8707FBE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6F96F-3092-4A74-A52C-0F96A57D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C73A-C380-4AF4-8E66-2D83382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89C2B-F5FA-425E-8AA9-11D23A85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53C9F-65C4-4E9C-B1AD-F25DE715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796BE-44B6-4832-A98D-396428FB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6E14E-89D2-43E5-AE40-329FFFF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6CBED-2E05-418A-A2B6-0EA8DDF7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C057B-3158-4502-98DC-7E2BC5E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F1406-C6E8-4806-9CF1-99B3B69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37B-9031-42AA-A196-1F11163B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399F7-F70F-42D4-96C4-96C7FBB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11C35-6A60-41D0-8628-DBA49B1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FB2F7-2019-43F4-917B-5224284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024E9-DCBC-4BA1-A88A-1DC260D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80712-A565-4382-8DB4-0A49F2DA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83F42-3910-4AB6-A705-AFD419B8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DF7B0-EAD3-4EBF-9879-5D7F67C8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9C1DB-070E-4A1C-8CDB-A79D8958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72DDF-54C3-406F-B485-0CA6403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FC6D3-2269-47A6-8E37-A548814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9A01-8489-40CF-BC50-CF3A4A8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8215A-9B25-47A8-B8BB-92A1B12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84226-A06C-4256-8EB2-59044A1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2F265-EE71-4BE7-9016-87F6682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BD159-26EA-4545-9500-31F2054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712B0-F347-4DFD-91A8-4AE3AFE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0C5C8-ECB0-4780-90B3-13BC076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69934-77E7-4754-8E1D-300A4AE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A53F9-B7CD-456E-BD0B-7F7019EA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7D65F-2E35-4A90-9D7D-D090E9BC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EEF-9A06-4BD3-859A-3C4B97A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6623-EA9F-428F-ACB1-0375BDD8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0E4-C4E6-4057-9758-44D0B8F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BFF-A61B-4549-ADF6-D38438C6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0BF-9030-4A68-8D26-B44D320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BE77-157C-43EC-8751-D1BABA8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23B0-24CD-4D26-A6BE-9EF18E3C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734E-A800-48B7-80D8-2E4DC809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5351-19D3-4915-B534-14A691EE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AA7CE-EF8B-437E-916F-4E6C90FE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F563A-DB86-49D0-9FA7-9EA464CC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DB5BB-92EA-4AC4-B7FA-737087B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8E6B7-9D55-4E38-9D50-62C9E52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F7263-9641-4351-BB80-34FF2B68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530-FBD9-46AB-AF42-BA864296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077F7-95E1-4DFD-B38B-4777E01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28132-DF38-4117-8A10-F5D0ECC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C68C7-D026-4A17-972F-7B14DC7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CC68F-81BA-4B25-A558-ABE7EEDC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03C63-7CC0-45B4-A2BD-7A09E64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B7D89-A757-49D9-BFC5-A9C9EDE4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54A35-F979-40C1-86DF-8FDBC80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3DF4-73AD-4E73-810C-A00530D3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844F-3A3A-4654-98AC-C5997735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75F2-A75D-4B6C-892F-A3D19D72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36E-9F34-4F72-97A4-81B181C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F0D5-787B-446E-8956-1BB3BF1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D631-C9CE-4972-A12E-A70A382C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99AE-08D0-4EDE-916C-E516024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7A2C-3FFC-4457-BF67-B145062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21A8-3C1D-4826-B2CF-411A386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BC87-48D6-465B-B0F6-69C7BD4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2401-7113-40ED-B961-796313A6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1C03-553C-433A-A00D-C49FA434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08FB-B1B9-420F-ACAD-2AEEC656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1E2F-4D51-4D32-838A-A537B5C6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C57-6C2A-4622-8F5C-E3B043C1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10F3-7924-4F3F-99C8-A0F25D19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40FDD-F0FB-4858-8DE2-F2234D39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AD92-91CB-4752-8154-7E55A40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CB57-A73F-4186-BE7B-838D6684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7DAE-EC2A-4290-9EB5-2B40D5D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E7A9-6A7E-4FD8-95A7-09E5749C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EDE0-6DC2-470B-89A9-6E3E526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0754-D2A3-40FA-9EB6-7C332A6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A7E4-741B-4CE4-9419-429C42F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F2C14-68FD-489E-BC8F-46D6D8D2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DAF-1A67-466F-9056-80EECBA7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BE64-4AC4-4DA2-AEFC-18E625E3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0F52-E888-48FE-8B26-36D43D88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89C7-0CCB-4928-BDDD-7A1C37B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0DDF-AF34-4C57-B331-8BBA08AD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E82D9-DCE7-47AB-9B44-4235299A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D866E-06C6-4EBA-B32F-EAAAAD9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D54B-61B6-4416-B226-46D1119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6C80-9992-4983-AAFB-586AED3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803D-65A2-4610-A405-3A0546D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C6D0-24AC-4D9A-8CDC-FB35B98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2B6-F139-4C7D-9372-AF52844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282E-88C0-432E-9D81-09BC718B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9A916-D9A9-44A5-9225-B33A7D4C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0162-7000-4AC1-9660-EE63AD16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AD911-859E-4FFE-8B09-4967881B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4E9FB-0341-4895-8243-96E8466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64F1-B4F3-4492-8DE5-8EBF24DF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72D2B-D2E1-4364-937F-1E0C4012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E168-DB0D-4E5E-946F-B768C9A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ADBB-7628-4B19-8326-C03C4E3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2479-4AB1-47E2-976E-89EF2F2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8B2-3707-49E3-9AA2-A5E3927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651B1-DFE4-4747-903C-948E8E2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D683-1E24-44DA-93CA-4FDECC9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B9F00-6879-40FE-91D6-F3228936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6D64B-43E2-4282-B019-75E38F74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EA3C9-8E17-480E-AE9B-9EC2FA2F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E1F1-7406-4AA7-85F5-58E230F5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28CF8-FB22-40B8-B01B-D68D0075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71CE3-DCAD-4E4D-AD0C-99D9C6E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5C8A1-E059-4DA8-9847-2B31194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35BA2-8313-46A4-A313-1F81AB9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DBD-06A0-44B8-BC67-EA7CF65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A173-B18F-4BD2-9904-75D670CF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C248-EABA-4CE1-880F-0B0AEF6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61AA1-627E-4C00-8D77-6865029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FC860-732F-4B75-AC27-456953C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6BB5-BE43-4FEE-9622-5D11879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B2E0-7534-47FE-B800-A946AF75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9F9F-6131-40B4-BCDA-8A218BA2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DFF17-7F2F-4D29-A693-6B40446B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B779A-A43B-4890-95D2-1102976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FD1A-66A9-42EB-96BE-F9E813DA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AD5B-3224-4E12-824A-E71CCDE78F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16A-6A7A-47DF-A607-20026AB37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0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1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F78-B39B-4C09-98CD-130C953DA9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5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36C-925E-4E95-80FF-77E11CDE47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071-9BF7-4C0D-BE18-1374C82CB7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13C1-4681-4DDA-B6F7-90E4252E83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161-F71F-4C9A-AA0C-8E999E04D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B4DD-20EA-4DAE-92DC-34FC5195F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5B6-893B-4D63-A8E4-8D0B8BCF1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EA10-03DA-4387-9F6F-7A5B85DEA60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4DC3-F85C-44F6-AB31-3954A3A278A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D1E6-E04D-45B2-B06A-6037BD0B7F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F33B-FF8E-41C0-A59E-42766BE9B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477-814F-4582-A8AD-8584B5FA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ущее стран ОП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пров Семен 232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ПИ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чему ОПЕК периодически сокращает добычу нефт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ЕК сокращает добычу нефти для того, чтобы не допустить падения цен на «чёрное золото» на мировом рынке. Естественно это благоприятный момент для России, хотя она и не состоит в данной организ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94920" y="-160920"/>
            <a:ext cx="84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588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ы ОПЕК буквально «кормя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фтью, но, разумеется с выгодой для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8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умеется доля нефти стран экспортёров вел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желаю успехов в получении новых знаний!!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ое будущее у стран ОПЕК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 такое ОПЕК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103"/>
                </a:solidFill>
                <a:latin typeface="Arial Black"/>
              </a:rPr>
              <a:t>ОПЕК - ОРГАНИЗАЦИЯ СТРАН-ЭКСПОРТЕРОВ НЕФТ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(Organization of Petroleum Exporting Countries, OPEC) – международная экономическая организация, объединяющая большинство ведущих стран-экспортеров нефти. Регулирует объем добычи и цену нефти на мировом рынке. Члены ОПЕК контролируют 2/3 мировых запасов нефти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ервоначально в состав организации вошл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н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увей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аудовская Аравия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енесуэла (инициатор созд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6027480"/>
            <a:ext cx="7772400" cy="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240" bIns="21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 этим пяти странам, основавшим организацию, позднее присоединились ещё девять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тар (196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донезия (1962—2008, 1 ноября 2008 г. вышла из состава ОПЕК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вия (1962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ъединённые Арабские Эмираты (196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лжир (196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герия (197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Эквадор (1973—1992, 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бон (1975—199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нгола (2007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"/>
          <p:cNvSpPr/>
          <p:nvPr/>
        </p:nvSpPr>
        <p:spPr>
          <a:xfrm>
            <a:off x="684360" y="-31608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8852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37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таб-квартира ОПЕК первоначально находилась в Женеве, позже перенесена в Вену. Дважды в год (не считая внеочередных событий) проходят конференции ОПЕК, на которых каждую страну представляет министр, отвечающий за добычу неф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270504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4680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долго существует ОПЕК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была создана в 1960 Ираном, Ираком, Кувейтом, Саудовской Аравией и Венесуэлой для координации их отношений с западными нефтеперерабатывающими компаниями. Как международная экономическая организация ОПЕК зарегистрирован в ООН 6 сентября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чего была создана организация ОПЕК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ОПЕК было вызвано стремлением стран – экспортеров нефти скоординировать усилия по предотвращению снижения мировых цен на неф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36:32Z</dcterms:created>
  <dc:creator>User</dc:creator>
  <dc:description/>
  <dc:language>en-US</dc:language>
  <cp:lastModifiedBy>07114</cp:lastModifiedBy>
  <dcterms:modified xsi:type="dcterms:W3CDTF">2009-11-27T07:42:30Z</dcterms:modified>
  <cp:revision>3</cp:revision>
  <dc:subject/>
  <dc:title>Будущее стран ОПЕК</dc:title>
</cp:coreProperties>
</file>